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66CA1-BB8B-4E8C-AD7E-6D9ED747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F3748-C04E-4563-838A-9ED31C27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CCDBB-0508-4290-A69C-AD4F8AF2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67ED6-3484-4D7E-AD65-67E1A8F3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EFFA-4726-434E-ABC3-375C3292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AD88-8195-415B-99C7-1E52886A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2236-91C5-4BB3-9F5A-112C083E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D554-6807-41FE-87A1-3FC1F490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1AA6-5328-49CA-A266-77343A62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D67D-8F66-4C2F-B79B-3535F892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3623-CFB1-4E7F-A3BA-CC452952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D94A2-C43A-4170-A3BC-0AE56D32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1FCC-62F9-4B69-AA4A-02FBE91D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5125-1528-4FDA-84F8-B8513430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D2F6-DD42-46B8-87DB-807C162E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CED8-E5EB-40BC-8C63-F3BC8D75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BCE9-2FFF-4FAC-8DC4-A58C4CEA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E588-AAD2-4863-9CEF-DA8C2CFD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A72DC-028B-48A1-9A9D-A24C8AF6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829E0-E870-470A-B70E-8B6BE8E8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1154E-5308-465D-8210-74BC88AA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B336B-54C6-4E2E-A956-F8DC709D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041F4-AB13-4221-AB28-A5D45771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08C8F-EDC5-4885-AF33-30E80990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7AC1-5297-416D-B5C6-CD2825BC9AD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092F-4886-4FCC-91F4-62A2EE26E54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urgos_Airport" TargetMode="External"/><Relationship Id="rId2" Type="http://schemas.openxmlformats.org/officeDocument/2006/relationships/hyperlink" Target="http://en.wikipedia.org/wiki/Burgos_Airport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Cathedral of Burg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3060720" cy="244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940360" y="2852640"/>
            <a:ext cx="3203640" cy="244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059280" y="1773360"/>
            <a:ext cx="2914560" cy="4381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707880" y="5516640"/>
            <a:ext cx="248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y Carlos,Ismael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rg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6º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City and Foo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he city:It has a well-developed transportation system, forming the main communication node in northern Spain. In 2008, the international </a:t>
            </a:r>
            <a:r>
              <a:rPr b="0" lang="es-ES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Burgos </a:t>
            </a:r>
            <a:r>
              <a:rPr b="0" lang="es-ES" sz="2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Airport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started to offer commercial flight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he most famous dish is the morcilla of Burgos. Because the people liked this dis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148360" y="1413000"/>
            <a:ext cx="374472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http://upload.wikimedia.org/wikipedia/commons/thumb/5/59/Burgos_Capital_-_Mapa_municipal.svg/310px-Burgos_Capital_-_Mapa_municipal.svg.png"/>
          <p:cNvPicPr/>
          <p:nvPr/>
        </p:nvPicPr>
        <p:blipFill>
          <a:blip r:embed="rId1"/>
          <a:stretch/>
        </p:blipFill>
        <p:spPr>
          <a:xfrm>
            <a:off x="179280" y="620640"/>
            <a:ext cx="4017960" cy="5184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356000" y="765000"/>
            <a:ext cx="3926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gos (Spanish pronunciation: is a city in northern Spain and the historic capital of Cast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File:Human Evolution Museum.jpg"/>
          <p:cNvPicPr/>
          <p:nvPr/>
        </p:nvPicPr>
        <p:blipFill>
          <a:blip r:embed="rId1"/>
          <a:stretch/>
        </p:blipFill>
        <p:spPr>
          <a:xfrm>
            <a:off x="539640" y="1557360"/>
            <a:ext cx="4392720" cy="4302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64000" y="1761480"/>
            <a:ext cx="345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Museum of Human Evolutio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Spanish: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Museo de la Evolución Human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) is a museum on the subject of human evolution situated on the south bank of the river Arlanzón, in the Spanish city of Burgo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57280" y="277920"/>
            <a:ext cx="16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use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09:04:03Z</dcterms:created>
  <dc:creator>pc10</dc:creator>
  <dc:description/>
  <dc:language>en-US</dc:language>
  <cp:lastModifiedBy>pc10</cp:lastModifiedBy>
  <dcterms:modified xsi:type="dcterms:W3CDTF">2014-02-10T09:35:52Z</dcterms:modified>
  <cp:revision>9</cp:revision>
  <dc:subject/>
  <dc:title>Diapositiva 1</dc:title>
</cp:coreProperties>
</file>